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DFA3-F22F-4D4B-910D-C1E1095C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0097-40E7-4377-8EB8-4DB40227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761-80D3-45F9-BE79-36E833BE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6C0-1C0E-4924-A522-ED4B1C22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CD914-7E85-4624-97AF-413E05A1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0E21B-7E12-4BF9-B8F6-9D488128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8384E-07BE-4AD1-B315-9B3CC723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44169-F1C0-4533-81C5-CC760C5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68FB0-3CF0-4A32-90DB-666D7B6A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9D309-409D-4D84-884E-A2A9438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87D76-DD6D-4B0F-8268-936F85EC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1F984-62B3-49C1-A4BD-5A629137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E5613-7F4B-400F-979A-AB1EBB84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0E2-D24B-4B7A-9D50-1F954A4F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DF7-92EB-4570-B02E-0226CC82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64C3-BC74-44EA-B4E4-6D845173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EAA9-52BF-461F-B77C-9FC498CA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7721-1C73-4E2A-85CF-751444C8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AD8-DFCC-4540-9585-8CF6DA7F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0ADC-633A-4D15-897F-D819EE2B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09C5-6838-4E8E-87DE-BD693EDB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70E3-14F4-4916-A29C-959C874C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98C-94B3-4A64-B62B-51679F24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6A4B-9074-422D-BD45-157F1EB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96D4-752E-4B6E-B18B-37D48B4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976F-6911-4DEE-9446-700620AA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5A39-67DF-4B0D-A77C-F87F6E79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58CE-95B3-4C0A-8003-35ACA0B6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A381-D9E7-46C5-9B80-05740D2D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831A-F647-46B4-B2CE-22D49BD8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76FF-D41F-44C4-92FF-8EED2938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C88E-2D57-4896-ADA0-5BE96269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C61A-8DF7-491C-9F6B-E361AE66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FF2-FC80-4251-95C3-39D4E769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4210-E0FA-46DC-9681-BF022AFF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409A-F0B7-4276-8C07-A251758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542C-7E27-4525-95AA-C1E696DC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C9B2-8B76-4A5E-AA43-65EB1A7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0E32-E507-4CBD-AE93-B266EE60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F73E-BFBA-44E9-81DC-4DAA68B2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6718-1372-46B0-B545-3E8BFC25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A66DE-E1D4-4B21-A286-BC71A89F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94DF-7C49-4ED9-AE8D-F1FAF6E0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F6BC-A013-4AB3-988C-4BAEE584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5A1-F89F-4D6D-A3B5-41DF82F1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71C8-4AA8-462F-B40E-807D169B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1781-DC38-4454-8572-B1BC12A0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330B-442F-49C0-864A-D7ADBE24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1EC6-1B79-4C65-8036-B11C8CB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60951-564D-4FF4-A951-B7EAE557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E08F-C538-471A-B99F-3779E6F4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793B0-15C9-4F58-AE13-5ADE1F7A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CB350-6A93-4223-B922-DEF88F0A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2785-6C89-4597-979C-56B87C04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D455-9116-41F7-8026-E27857F9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6B6-CDBD-433A-85D4-286F4B35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A881-4286-4539-B758-547CF875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09A37-CC8C-44ED-A3B3-E9F2A315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1FFBA-9F91-4692-892E-7B46C1CB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AB1A8-877F-4756-819B-D1535846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0B35-2FEF-4140-A73E-A193C54C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3752E-27D3-48E8-A5BA-B5BC379B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5689-0638-40FB-88D6-347D1A1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4D6F-FBAD-4431-BD13-D0B74D28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9E7D-E4FD-4B99-B92A-E1F1712A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3E571-3B8D-4C40-A49B-0FFF92D1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A26-7A2B-4852-92EB-C274249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8F4D4-F68E-4869-96D2-676B3A91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8EE1-59F5-41A8-BF94-0797D1E5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F9CD-D0EF-424B-8C03-3B135FCF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004B-D2A7-4453-A38F-2E4232A6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0E851-DF31-4194-815F-40DE3ED1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2113-4FDD-493B-819F-E1610424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8AC19-66F8-4687-B5B2-0EC25074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1704-CF45-421F-893D-ACC73886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087B2-BBEE-44C0-A7C7-B364B7C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FCDE-1088-43AB-AD63-4D1D1002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C2F-6520-4D3D-8212-AFB8580E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F4F63-C3A5-4F9F-BF26-758474AB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6EA23-F94F-425E-8CB1-D8B4FBB6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15FEF-68D1-457C-8DDE-03ECFFAA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E2B5-A674-4752-AC61-97CA8F70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87E25-5746-464F-8B99-6F8BE9A5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7E8D9-F634-4A0B-A0EE-A5495B28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62F3C-2CDA-4EBD-BB90-3FF06435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9B0FE-DD49-400B-8BFA-B6DDDD42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4457E-F027-4406-BF53-3344716B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B40D8-6B06-4DFE-AD51-841EA82D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CC9-C9FF-488D-AB92-5E17C8D5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1F57A-0C5B-4D96-A588-6F05C73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628AF-A77D-4155-BEE5-7780B222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5656-A063-4594-86FA-652B0DB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03507-9BB3-4A36-80F7-F0FFFA17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9A0A-FFC6-48C5-852F-C012DF0F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8D7F7-03A2-49FE-98AE-C54F4EED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DBDDE-35E5-42B4-9FFC-DC2E947E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6B855-CE19-4579-8D21-40005286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E71BC-C8EB-4FE8-9C9F-C2A069B7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B569F-C2F6-4DA1-8B94-6C64391E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D60-B525-4DCC-8208-5906C4EE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62D67-D405-49CD-83A7-20EE90A2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A4294-6E50-4396-A79F-14F197F5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67233-66E5-44FC-A459-2A1023C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4C7D0-8FE7-4909-8FCC-309944B3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F1309-9F99-41E8-9080-9BABE22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8AB4C-52CE-4A76-B92A-8FB0183C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AEB2C-9952-4DDB-A233-7EDA1B29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A5527-2602-4475-A4C4-4AD42790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167F6-16E2-4F95-AF89-1F229C8F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8E441-D2B4-4351-8CD3-C4DB479C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FBC2-FEC3-4E29-AE21-F258AA204AA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F7E7-6CBF-4276-A652-3658FD6DE574}" type="datetime3">
              <a:rPr b="0" lang="en-US" sz="1200" spc="-1" strike="noStrike">
                <a:solidFill>
                  <a:srgbClr val="ffffff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DF6D-9BB0-440F-8AF0-7B684542F51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caf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f2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08B2-153A-4B04-9906-E9EC164FCC3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072C-9C8C-4ACE-96E3-20021B98B35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0183-37CC-4DA7-B402-262A023B3B6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3406-8193-4BF4-80F4-8F0864ADC4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D124-4680-4659-92F2-FFFD946E990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73D1-A015-44B5-8FF4-58EC6FCD55E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9955-0329-4768-94F5-F04CCE4D895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hemical_reactions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a/url?sa=i&amp;source=images&amp;cd=&amp;cad=rja&amp;docid=mzztDNprUbX87M&amp;tbnid=41ROJ3JYmNZG_M:&amp;ved=0CAgQjRwwAA&amp;url=http%3A%2F%2Fimpliedmortality.com%2F2010%2F06%2F30%2Fon-match-head-combustibility-and-explosive-tennis-ball-mechanics%2F&amp;ei=OLlvUuXXGtO3kQf6kID4Dw&amp;psig=AFQjCNECjPP7a737P6mtFlpcrIQU8Y1Q8A&amp;ust=1383140024496205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url?sa=i&amp;source=images&amp;cd=&amp;cad=rja&amp;docid=UyxZfOqKxkEnmM&amp;tbnid=xH9GSdoUZks_aM:&amp;ved=0CAgQjRwwADgT&amp;url=http%3A%2F%2Fseerpress.com%2Ftrafigura-fined-840000-for-dumping-toxic-waste-in-ivory-coast%2F3191%2F&amp;ei=fbpvUqCmCs2FkQfzvYCADg&amp;psig=AFQjCNF2G_LsmU-pKltf1jxCljQbDgfnmw&amp;ust=138314034923816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ca/url?sa=i&amp;source=images&amp;cd=&amp;cad=rja&amp;docid=-g-hZbl06QIKHM&amp;tbnid=pHqFmB3vqdKU3M:&amp;ved=0CAgQjRwwAA&amp;url=http%3A%2F%2Fwww.periodictable.com%2FElements%2F011%2F&amp;ei=ObpvUpHkN43TkQft2oH4AQ&amp;psig=AFQjCNEydQ_0KQU5e4pUHn1pfCrCeuVkFA&amp;ust=1383140281998978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Aharoni"/>
                <a:ea typeface="Aharoni"/>
              </a:rPr>
              <a:t>Chemical Properties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pic>
        <p:nvPicPr>
          <p:cNvPr id="399" name="Picture 8" descr="matter_intro_2_240"/>
          <p:cNvPicPr/>
          <p:nvPr/>
        </p:nvPicPr>
        <p:blipFill>
          <a:blip r:embed="rId1"/>
          <a:stretch/>
        </p:blipFill>
        <p:spPr>
          <a:xfrm>
            <a:off x="2895480" y="2362320"/>
            <a:ext cx="3422880" cy="342252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6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C8CA-2884-4C1F-A601-CDFE8604DA4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FBB-9225-4454-8CE0-E6220D6D77A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7" descr="8669565"/>
          <p:cNvPicPr/>
          <p:nvPr/>
        </p:nvPicPr>
        <p:blipFill>
          <a:blip r:embed="rId1"/>
          <a:stretch/>
        </p:blipFill>
        <p:spPr>
          <a:xfrm>
            <a:off x="1295280" y="762120"/>
            <a:ext cx="62485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c600"/>
                </a:solidFill>
                <a:latin typeface="Arial"/>
              </a:rPr>
              <a:t>Physical Change vs Chemical Change</a:t>
            </a:r>
            <a:endParaRPr b="0" lang="en-US" sz="3200" spc="-1" strike="noStrike">
              <a:solidFill>
                <a:srgbClr val="3e3d2d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533520" y="1447920"/>
          <a:ext cx="7848360" cy="5029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change in the form or state of a substanc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hemical composition, (the type of particles), remain the sa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: cutting, breaking, crushing, dissolving, melting, freezing, evaporating, conden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es a new substance with different physical and chemical propertie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hemical composition is chang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: Reaction heats up, chemicals change col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E07F-8C16-4331-ABC3-87DAB93AA7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96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94c600"/>
                </a:solidFill>
                <a:latin typeface="Arial"/>
              </a:rPr>
              <a:t>What type of change is occurring in this cand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j0078759"/>
          <p:cNvPicPr/>
          <p:nvPr/>
        </p:nvPicPr>
        <p:blipFill>
          <a:blip r:embed="rId1"/>
          <a:stretch/>
        </p:blipFill>
        <p:spPr>
          <a:xfrm>
            <a:off x="5562720" y="3276720"/>
            <a:ext cx="1738080" cy="2220840"/>
          </a:xfrm>
          <a:prstGeom prst="rect">
            <a:avLst/>
          </a:prstGeom>
          <a:ln w="0">
            <a:noFill/>
          </a:ln>
        </p:spPr>
      </p:pic>
      <p:sp>
        <p:nvSpPr>
          <p:cNvPr id="449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1C77-C7C8-4BDF-8BFB-2B7816FD935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7B43-EF6A-4307-87A2-5C8B7A395BC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changes"/>
          <p:cNvPicPr/>
          <p:nvPr/>
        </p:nvPicPr>
        <p:blipFill>
          <a:blip r:embed="rId1"/>
          <a:stretch/>
        </p:blipFill>
        <p:spPr>
          <a:xfrm>
            <a:off x="228600" y="609480"/>
            <a:ext cx="5029200" cy="5486400"/>
          </a:xfrm>
          <a:prstGeom prst="rect">
            <a:avLst/>
          </a:prstGeom>
          <a:ln w="0">
            <a:noFill/>
          </a:ln>
        </p:spPr>
      </p:pic>
      <p:sp>
        <p:nvSpPr>
          <p:cNvPr id="453" name="TextBox 1"/>
          <p:cNvSpPr/>
          <p:nvPr/>
        </p:nvSpPr>
        <p:spPr>
          <a:xfrm>
            <a:off x="5486400" y="113364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p. 160 – 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p. 163 do the Learning Check # 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p. 165 do questions  #1-4, 6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"/>
          <p:cNvSpPr/>
          <p:nvPr/>
        </p:nvSpPr>
        <p:spPr>
          <a:xfrm>
            <a:off x="5486400" y="609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4c6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5334120" y="3429000"/>
            <a:ext cx="1981080" cy="1600200"/>
          </a:xfrm>
          <a:prstGeom prst="wedgeRectCallout">
            <a:avLst>
              <a:gd name="adj1" fmla="val -83972"/>
              <a:gd name="adj2" fmla="val 28374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not a chemical change because the glowing wire does not form new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4c600"/>
                </a:solidFill>
                <a:latin typeface="Arial"/>
              </a:rPr>
              <a:t>Chemical Properties and Particle Theory</a:t>
            </a:r>
            <a:endParaRPr b="0" lang="en-US" sz="38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lnSpc>
                <a:spcPct val="80000"/>
              </a:lnSpc>
              <a:spcBef>
                <a:spcPts val="174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emical properties describe the ability of a substance to change and form new substances with new physical and chemica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174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all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particle theor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different substances have different arrangements of particles. During a chemical reaction, particles are rearranged to form the new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6ABE-1814-466A-801B-7D72C16D2F2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500px-Chemical_reacti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4267080"/>
            <a:ext cx="47628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Examples of Chemical Properties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ity with other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ust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mat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962520"/>
            <a:ext cx="1862280" cy="2628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Trafigura-toxic-was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962520"/>
            <a:ext cx="3552840" cy="2361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10">
            <a:hlinkClick r:id="rId5"/>
          </p:cNvPr>
          <p:cNvPicPr/>
          <p:nvPr/>
        </p:nvPicPr>
        <p:blipFill>
          <a:blip r:embed="rId6"/>
          <a:srcRect l="13509" t="0" r="0" b="0"/>
          <a:stretch/>
        </p:blipFill>
        <p:spPr>
          <a:xfrm>
            <a:off x="3733920" y="1752480"/>
            <a:ext cx="2438280" cy="2114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ddt-household-pests-usda-mar47a"/>
          <p:cNvPicPr/>
          <p:nvPr/>
        </p:nvPicPr>
        <p:blipFill>
          <a:blip r:embed="rId7"/>
          <a:stretch/>
        </p:blipFill>
        <p:spPr>
          <a:xfrm>
            <a:off x="6058080" y="1638360"/>
            <a:ext cx="308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33160" y="838080"/>
            <a:ext cx="7848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any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hemical reac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rting substances are called the </a:t>
            </a:r>
            <a:r>
              <a:rPr b="1" lang="en-CA" sz="2800" spc="-1" strike="noStrike">
                <a:solidFill>
                  <a:srgbClr val="94c600"/>
                </a:solidFill>
                <a:latin typeface="Arial"/>
              </a:rPr>
              <a:t>reactan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substances produced are called </a:t>
            </a:r>
            <a:r>
              <a:rPr b="1" lang="en-CA" sz="2800" spc="-1" strike="noStrike">
                <a:solidFill>
                  <a:srgbClr val="94c600"/>
                </a:solidFill>
                <a:latin typeface="Arial"/>
              </a:rPr>
              <a:t>produc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6EF9-CC5E-4EE8-B755-0F2F3EB7A8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"/>
          <p:cNvSpPr/>
          <p:nvPr/>
        </p:nvSpPr>
        <p:spPr>
          <a:xfrm>
            <a:off x="4495680" y="39625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Arial"/>
              </a:rPr>
              <a:t>Baking Soda and Vinegar are Reactive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19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baking soda and the vinegar are the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reactan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19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the two are mixed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observ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at a gas is produced (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se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ubbles being form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199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“salt” (called sodium acetate), water and carbon dioxide particles were not present before. These new particles are the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produc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nd were formed during the chemical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"/>
          <p:cNvPicPr/>
          <p:nvPr/>
        </p:nvPicPr>
        <p:blipFill>
          <a:blip r:embed="rId1"/>
          <a:srcRect l="0" t="18347" r="0" b="12960"/>
          <a:stretch/>
        </p:blipFill>
        <p:spPr>
          <a:xfrm>
            <a:off x="1523880" y="4648320"/>
            <a:ext cx="6912000" cy="1765080"/>
          </a:xfrm>
          <a:prstGeom prst="rect">
            <a:avLst/>
          </a:prstGeom>
          <a:ln w="0">
            <a:noFill/>
          </a:ln>
        </p:spPr>
      </p:pic>
      <p:sp>
        <p:nvSpPr>
          <p:cNvPr id="417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8AFD-AFE4-430B-B16D-F5A24180D06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you tell if a Chemical Change has occurred?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pic>
        <p:nvPicPr>
          <p:cNvPr id="420" name="Picture 9" descr="EggDone2"/>
          <p:cNvPicPr/>
          <p:nvPr/>
        </p:nvPicPr>
        <p:blipFill>
          <a:blip r:embed="rId1"/>
          <a:stretch/>
        </p:blipFill>
        <p:spPr>
          <a:xfrm>
            <a:off x="5715000" y="160020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12119-sof_screen01"/>
          <p:cNvPicPr/>
          <p:nvPr/>
        </p:nvPicPr>
        <p:blipFill>
          <a:blip r:embed="rId2"/>
          <a:stretch/>
        </p:blipFill>
        <p:spPr>
          <a:xfrm>
            <a:off x="577800" y="41148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5" descr="3203_74193646377_30747591377_2037752_796910_n"/>
          <p:cNvPicPr/>
          <p:nvPr/>
        </p:nvPicPr>
        <p:blipFill>
          <a:blip r:embed="rId3"/>
          <a:stretch/>
        </p:blipFill>
        <p:spPr>
          <a:xfrm>
            <a:off x="3962520" y="4114800"/>
            <a:ext cx="1679400" cy="2530440"/>
          </a:xfrm>
          <a:prstGeom prst="rect">
            <a:avLst/>
          </a:prstGeom>
          <a:ln w="0">
            <a:noFill/>
          </a:ln>
        </p:spPr>
      </p:pic>
      <p:sp>
        <p:nvSpPr>
          <p:cNvPr id="423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5CEF-3315-42D0-9DA2-C5D786BA7A6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e3d2d"/>
                </a:solidFill>
                <a:latin typeface="Arial"/>
              </a:rPr>
              <a:t>There are 5 signs that can be used as evidence of a chemical change:</a:t>
            </a:r>
            <a:endParaRPr b="0" lang="en-US" sz="3200" spc="-1" strike="noStrike">
              <a:solidFill>
                <a:srgbClr val="3e3d2d"/>
              </a:solidFill>
              <a:latin typeface="Arial"/>
            </a:endParaRPr>
          </a:p>
        </p:txBody>
      </p:sp>
      <p:pic>
        <p:nvPicPr>
          <p:cNvPr id="426" name="Picture 9" descr="http://static.howstuffworks.com/gif/science-projects-for-kids-chemical-reaction-7.jpg"/>
          <p:cNvPicPr/>
          <p:nvPr/>
        </p:nvPicPr>
        <p:blipFill>
          <a:blip r:embed="rId1"/>
          <a:stretch/>
        </p:blipFill>
        <p:spPr>
          <a:xfrm>
            <a:off x="1704960" y="2057400"/>
            <a:ext cx="1504800" cy="1905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ͅ°"/>
          <p:cNvPicPr/>
          <p:nvPr/>
        </p:nvPicPr>
        <p:blipFill>
          <a:blip r:embed="rId2"/>
          <a:stretch/>
        </p:blipFill>
        <p:spPr>
          <a:xfrm>
            <a:off x="5281560" y="2057400"/>
            <a:ext cx="2352600" cy="1905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http://www.glowstickfactory.com/product_images/uploaded_images/light-sti222ck-2.jpg"/>
          <p:cNvPicPr/>
          <p:nvPr/>
        </p:nvPicPr>
        <p:blipFill>
          <a:blip r:embed="rId3"/>
          <a:stretch/>
        </p:blipFill>
        <p:spPr>
          <a:xfrm>
            <a:off x="838080" y="4267080"/>
            <a:ext cx="2506680" cy="19051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2" descr="http://xprizecars.com/images/Battery_9V.jpg"/>
          <p:cNvPicPr/>
          <p:nvPr/>
        </p:nvPicPr>
        <p:blipFill>
          <a:blip r:embed="rId4"/>
          <a:stretch/>
        </p:blipFill>
        <p:spPr>
          <a:xfrm>
            <a:off x="5505480" y="4114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30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D346-5024-431C-B2B5-9A86CF30637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image001"/>
          <p:cNvPicPr/>
          <p:nvPr/>
        </p:nvPicPr>
        <p:blipFill>
          <a:blip r:embed="rId5"/>
          <a:stretch/>
        </p:blipFill>
        <p:spPr>
          <a:xfrm>
            <a:off x="3662280" y="4267080"/>
            <a:ext cx="1586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 of chemical change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Formation of a gas (detectable odour or bubbles formed that is not a change of stat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Formation of a </a:t>
            </a:r>
            <a:r>
              <a:rPr b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precipitat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. A precipitate is a solid substance that forms when two solutions are mixed toge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nergy in the form of heat or light is either released or absor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 permanent unexpected change in col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lectricity is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D654-A9D5-4381-879A-EF1C1524F2B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Arial"/>
              </a:rPr>
              <a:t>Chemical Changes are Different from Physical Change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call that physical cha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ters only the form or state of a substance (freezing, breaking, melt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chemical composition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f State are physic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: Boiling water, cracking eggs, chopping wood, bending a nail, dissolving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C8A0-C35D-467F-A6C8-78385BF5BC5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3" descr="crack-the-egg"/>
          <p:cNvPicPr/>
          <p:nvPr/>
        </p:nvPicPr>
        <p:blipFill>
          <a:blip r:embed="rId1"/>
          <a:stretch/>
        </p:blipFill>
        <p:spPr>
          <a:xfrm>
            <a:off x="762120" y="4724280"/>
            <a:ext cx="2860560" cy="1905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6" descr="sugar-solution"/>
          <p:cNvPicPr/>
          <p:nvPr/>
        </p:nvPicPr>
        <p:blipFill>
          <a:blip r:embed="rId2"/>
          <a:stretch/>
        </p:blipFill>
        <p:spPr>
          <a:xfrm>
            <a:off x="4038480" y="4724280"/>
            <a:ext cx="34290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8:08:22Z</dcterms:created>
  <dc:creator>OCDSB</dc:creator>
  <dc:description/>
  <dc:language>en-US</dc:language>
  <cp:lastModifiedBy>Katie</cp:lastModifiedBy>
  <dcterms:modified xsi:type="dcterms:W3CDTF">2014-10-01T19:32:55Z</dcterms:modified>
  <cp:revision>32</cp:revision>
  <dc:subject/>
  <dc:title>Physical and Chemical Change</dc:title>
</cp:coreProperties>
</file>